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9C6-150A-4CDE-BB2D-D52E9465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8BF-F4BB-492B-86A2-D56B991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C77-A479-4035-8834-A76CB939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83628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B12-6F55-4466-8771-528987FE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28C-236C-4E48-9EBD-C597E2F1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04-385D-4969-81DF-B45B1F6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1EA-7E32-4188-95D9-7AB4A88C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13B-EF9B-4D20-AEE1-AEF3F8B3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562-3B90-4968-A35B-13DA8E14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E18-BA17-4BFF-9895-2E73B49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EE5-8485-410A-9526-C958B2A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-41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836280"/>
            <a:ext cx="401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234-5D34-40E3-AADE-1E77CA7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0720" y="6540480"/>
            <a:ext cx="21337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B50E-5B18-49E9-BDCA-7D0313FA36D7}" type="slidenum"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2600"/>
            <a:ext cx="9144000" cy="655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-387" b="32314"/>
          <a:stretch/>
        </p:blipFill>
        <p:spPr>
          <a:xfrm>
            <a:off x="57240" y="50760"/>
            <a:ext cx="113004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vents.linuxfoundation.jp/events/linuxcon-japan/program/schedule" TargetMode="External"/><Relationship Id="rId2" Type="http://schemas.openxmlformats.org/officeDocument/2006/relationships/hyperlink" Target="http://events.linuxfoundation.jp/events/linuxcon-japan/program/presentation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78544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 Black"/>
              </a:rPr>
              <a:t>Automotive Linux Summit Spring 2013</a:t>
            </a:r>
            <a:br>
              <a:rPr sz="2800"/>
            </a:br>
            <a:r>
              <a:rPr b="0" lang="ja-JP" sz="3200" spc="-1" strike="noStrike">
                <a:solidFill>
                  <a:srgbClr val="000000"/>
                </a:solidFill>
                <a:latin typeface="Arial Black"/>
              </a:rPr>
              <a:t>LinuxCon Japan 2013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 Black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28680" y="4268880"/>
            <a:ext cx="665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パナソニック株式会社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加藤 一臣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LinuxCon Japan </a:t>
            </a: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概要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LinuxCon Japa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とは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の技術についての国際技術会議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(5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回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エンタープライズ系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がメイン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主催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he Linux Foundation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著名な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rnel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メンテナーや、世界中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技術者が多数参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開催日時：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5/29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水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1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金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日間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場所：椿山荘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東京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参加費：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00,350,425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ドル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差は早期割引有り無し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参加者：登録者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650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名とのこと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LF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事務の方に聞きまし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Keynote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ynote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は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個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会場同時開催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日間で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loudOpen Japa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イベント共催。実態は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,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会場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ess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loud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枠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8F2-F0C2-4064-939B-6517A16B4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Reference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スケジュール：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HGP創英角ｺﾞｼｯｸUB"/>
                <a:hlinkClick r:id="rId1"/>
              </a:rPr>
              <a:t>http://events.linuxfoundation.jp/events/linuxcon-japan/program/schedule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スライド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PDF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HGP創英角ｺﾞｼｯｸUB"/>
                <a:hlinkClick r:id="rId2"/>
              </a:rPr>
              <a:t>http://events.linuxfoundation.jp/events/linuxcon-japan/program/presentations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Keynote Video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6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に公開されるらしい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(LF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からの参加者へのメールより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Photo Stream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events.linuxfoundation.org/events/linuxcon-japan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各種サイトより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クラウドはオープンソースの技術から作られた？　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初日レポート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530_601494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はオープンソースにしたおかげで今も続いている」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s Tovalds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氏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531_601668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カーネルの開発状況とトレンド、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OpenStack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の動向などを解説～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日目基調講演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cloud.watch.impress.co.jp/docs/event/20130603_601967.html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なぜ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を生み出せたのか？ それはぼくが若くてバカだったからだよ！─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で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年ぶりに来日した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s Torvalds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名言集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gihyo.jp/news/report/2013/05/3101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Gihyo.jp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の連載：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LinuxCon Japan 2013 Preview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</a:rPr>
              <a:t>http://gihyo.jp/dev/serial/01/linuxcon2013</a:t>
            </a:r>
            <a:endParaRPr b="0" lang="en-US" sz="1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Togetter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0249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0739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日目：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</a:rPr>
              <a:t>http://togetter.com/li/511211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E25-E032-465D-91A7-05826B75F6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Keynote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会場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60360" y="1009800"/>
            <a:ext cx="7488360" cy="56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8000" y="836640"/>
            <a:ext cx="5616360" cy="1440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初日の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Keynote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様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inus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さん登壇のパネル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聴講者は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500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以上いたと思わ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B58-66A9-47A9-B747-C542C8DAE7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The Linux Foundation 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tle : Opening Keynote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Speaker : Jim Zemlin, Executive Director at The Linux Foundation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on’t dream it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大きなことをやろうとする必要は無いのです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‘m not doing anything big. Just something for fun Linu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有名なことば 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はこれで本を書いた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tle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Just for fun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」．成功は後から付いてくる 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ive it away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BM, RedHat, Microsoft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成長度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株価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紹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無料にすることでアイデアを共有でき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→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お金を稼げ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on’t hava a plan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プランはない．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Whether Forecast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が一番の成功かもしれない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天気は計画できないですよね．でも，少しは予測できる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You don’t always have to be nice.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普通「良い人じゃないと」と思うでしょう．しかし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の人は批評・批判します．討議・批評が良い結果をもたらします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he best firms invest in EXTERNAL research and development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外部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R&amp;D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をうまくマネージしている会社が良い．アイデアと言うのは社外から来ることが多い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oogle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や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では外のソフトウェアについて「何がいいか？どう使うか？」を見ている人がいる．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231-3512-4BCF-9A21-87DFD74697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NEC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Introduction to OpenDaylight: An Open Source Community Around Software-Defined Networking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Speaker : Terry Nakajima, Senior Manager, SDN Business Strategy at NEC Corporation of America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をつくるためのもの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OpenDayligh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DN : Software Defined Networking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he Linux Foundatio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内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Collaborative Project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コミュニティを健全な形で運営していくことが重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第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四半期にコードリリース予定．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EPL 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ABF-5B04-4A36-A089-9AE4B8025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Panel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Panel - Virtualization &amp; Open Cloud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Panelist :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Laszlo Hornyak, Red Hat; David Nalley, Apache CloudStack; Muharem Hrnjadovic, Rackspace; Guido Trotter, Google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Moderator : 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Fernando Luis Vázquez Cao, NTT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従来の仮想化とクラウド，何が違うのか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エンドユーザにとってはそれは重要ではな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ユーティリティの観点が重要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OpenDayligh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．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は必要？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スケールの問題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DN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に人を向かわせている．従来のネットワークだとスケールの問題が出てくる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などなど・・・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F53-887D-40AC-983B-42C9521EFD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Open Compute Foundat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itle : The Open Source Data Center: The Holy Grail of X Computing and Community Driven Innov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peaker : Cole Crawford, Chief Operating Officer at Open Compute Found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オープンなデータセンター技術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ソフトウェアだけでなく，ハードウェアもオープンに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データセンターやサーバなどの使用や技術をオープンに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データセンター．オープンにやるほうが有利なことがわかった．少しくらい自分達だけのものがあろうが，オープンにするほうが良かった．その結果，いろんなアイデアがでてきた．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2AB-14CB-4D1C-A385-40F2909251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Keynote : Fujitsu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itle : Open Source Development in Real Business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Speaker : Yoshiya Eto, Fujitsu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富士通での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開発との関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Working together with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実装する人は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Requiremen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をちょっと違って理解するかもしれない．ではどうするか？ あなた自身で開発すれば良い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o develop things in community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コミュニティで開発す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Development style in Linux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作ったらクリーンアップしないといけない．その上でパッチを送る．これ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つの会社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チーム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生産性としては低原因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Fuel of Innovation at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他のベンダーとやることで，技術革新ができ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先にあげた生産性は私のチームの生産性に過ぎない．全体の生産性は何倍にもな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Summary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：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No choice other than OSS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577-395A-421E-8D36-42EEB0984A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Keynote Panel : Linus &amp; Dirk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Title : Linux: Where Are We Going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Panelist : Linux Creator Linus Torvalds and Intel's Chief Linux and Open Source Technologist, Dirk Hohndel 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抜粋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今どこにいるのか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数年，このモデルはうまく行っている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週間のリリースサイクル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ほとんどハード関係．新しいハードのサポート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多様性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Kernel Summi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写真では男性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白人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多い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よくないと思っている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Kernel Summit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最悪の事例かも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,15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と参加している人が来るので，北米ヨーロッパ中心にな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女性のカーネル開発者向けのワークショップの紹介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開発者でないので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Patch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投稿は不得手．コントリビュータになる方法は？ある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プロジェクトのなかでやることはある．コードを書くことが全てだと思っていたが，トランスレーションできる．ディストリビューションする．など得意分野で貢献して欲しい．テストでも良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のような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どうなっていく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それほど変わらないと思う．実際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年代の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コンセプトも，今でも納得できるものだ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をなぜはじめたの？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若かったから．馬鹿だったから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会場笑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が欲しかった．プロプラでもよければ使うが，当時は高い・性能もよくな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どこにいくのでしょう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あと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分少々ですが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笑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プランは無かった．が，他の人たちはプランがあっ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それぞれの動機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．いろんなプランがいろんな方向を向いています．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</a:rPr>
              <a:t>はそれを入れようとして，いろいろ違う方向に行くでしょう．一つのプランがあるよりもずっと興味深い．</a:t>
            </a:r>
            <a:endParaRPr b="0" lang="en-US" sz="1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D1B-8A38-48D6-81C8-ADFD1CABB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Automotive Linux Summit Spring 2013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</a:rPr>
              <a:t>Keynote : LWN.net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Title : Linux Kernel Repor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Speaker : Jon Corbet, Editor at LWN.ne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抜粋</a:t>
            </a:r>
            <a:r>
              <a:rPr b="0" lang="ja-JP" sz="32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TI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amsung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，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Linaro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などモバイル，組込み分野の企業からのコントリビュートが増えている」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big.LITTLE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スケジューラを改良したいなら，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ARM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にコントリビューションしている人たちがもっとやる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rnel,mm,fs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あたりで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Top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コントリビュータと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ARM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のコントリビュータは殆ど一致していな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「テールランプを見ていて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見ているだけでは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イノベーションは起こせない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起きない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505-5C4D-40E3-8528-0864DC68EB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58075" t="0" r="0" b="0"/>
          <a:stretch/>
        </p:blipFill>
        <p:spPr>
          <a:xfrm>
            <a:off x="6627960" y="692280"/>
            <a:ext cx="2530440" cy="617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82720" y="38160"/>
            <a:ext cx="717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349360"/>
            <a:ext cx="82296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 Black"/>
                <a:ea typeface="HGP創英角ｺﾞｼｯｸUB"/>
              </a:rPr>
              <a:t>Thank you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0" r="0" b="38834"/>
          <a:stretch/>
        </p:blipFill>
        <p:spPr>
          <a:xfrm>
            <a:off x="2859120" y="4149720"/>
            <a:ext cx="3424320" cy="647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70120" y="5661000"/>
            <a:ext cx="375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e-mai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kato.kazuomi@jp.panason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kato.shinsuke@jp.panason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utomotive Linux Summit </a:t>
            </a:r>
            <a:r>
              <a:rPr b="0" lang="zh-CN" sz="3600" spc="-1" strike="noStrike">
                <a:solidFill>
                  <a:srgbClr val="ffffff"/>
                </a:solidFill>
                <a:latin typeface="HGP創英角ｺﾞｼｯｸUB"/>
              </a:rPr>
              <a:t>概要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8000" y="836640"/>
          <a:ext cx="8856720" cy="3821040"/>
        </p:xfrm>
        <a:graphic>
          <a:graphicData uri="http://schemas.openxmlformats.org/drawingml/2006/table">
            <a:tbl>
              <a:tblPr/>
              <a:tblGrid>
                <a:gridCol w="1187280"/>
                <a:gridCol w="2484720"/>
                <a:gridCol w="259236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回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AL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8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9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7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8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本　横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ギリス　ゲイド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日本　東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参加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/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5/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4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EL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と同時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ド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参加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名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1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名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Session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3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(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会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6B5-2325-4B59-886E-FCD3651AA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LS Session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会場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02280" cy="537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2720" y="765000"/>
            <a:ext cx="5543640" cy="1656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LS 2013 Session</a:t>
            </a: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会場の様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他のカンファレンスよりスーツ姿が多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人数少のセッションも有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B12-46DB-4A2A-A962-FAD48ACC3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ALS Opening Keynote – Linux Founda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peaker : Jim Zemlin, The Linux Foundation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（自動車業界は、）どのような人材を雇うべきか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仕事で遊ぶ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創造する人は報酬で動かず、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自分にとって興味あることを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ソフトウェアを与える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アイデアをシェアでき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自動車業界は、ソフトでお金を稼がず車両で稼げ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計画にこだわらない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計画は大切だが、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Linux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は計画無しでも発展した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嫌なやつ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互いに批判、議論し合う方が良い結果を得られ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外部の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R&amp;D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を活用出来る人を雇うべき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サムスンは、オープンソース海外拠点を作って管理して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Google/Apple/Facebook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と人材を取り合う状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27640" y="1628640"/>
            <a:ext cx="271800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C29-643A-4C44-987D-CE669109C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Keynote - Nissa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itle : Automotive Industry's Challenges to the New Paradigm from Legacy IVI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peaker : 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村松寿郎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日産　ビークルインフォメーションテクノロジー事業本部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IVI (In-Vehicle Infotainment)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CE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機器とのギャップについて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車載：運転性能が重要　　スマホ：操作性が最優先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　ブート時間（スマホは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秒！）、ブラックスクリーン問題あり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ソフトアップデートが要求される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rd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アプリも活用され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→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　想定アーキ：ＤＬアプリとネイティブアプリ分離（仮想化）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自動車の開発サイクル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年、家電は６ヶ月で新しい機能・デバイスが出てく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CPU/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メモリのスペックは家電より１，２代前、最新機能は動かせない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垂直統合型の開発してきたが、今後をオープンなサービス、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PF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を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tep by step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で実現していきたい　（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1st step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は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SDK</a:t>
            </a:r>
            <a:r>
              <a:rPr b="0" lang="zh-CN" sz="2400" spc="-1" strike="noStrike">
                <a:solidFill>
                  <a:srgbClr val="000000"/>
                </a:solidFill>
                <a:latin typeface="HGP創英角ｺﾞｼｯｸUB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D00-B17E-44BA-BD69-81DF903A72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Title : - The Open Paradigm - A Tectonic Shift in the Automotive Industry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Speaker :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HGP創英角ｺﾞｼｯｸUB"/>
              </a:rPr>
              <a:t>Matt Jones, Jaguar Land Rover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ジャガー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Hisao Munakata, Renesas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ルネサス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en-Ichi Murata, Toyota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トヨタ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Kazuo Tsubouchi, DENSO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（デンソー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Rudolf Streif, The Linux Foundation (Moderator)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</a:rPr>
              <a:t>概要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自動車業界における地殻変動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125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年自動車業界とサプライヤーの閉じた世界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501-6DE2-4E86-89C8-993C21FDF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ジャガー：　運転系だけでなく、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IVI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システムにも期待に応えていかないと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化をやらなければいけない理由、システムが複雑すぎて自分達で解決できない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デンソー：　自分達のリソースだけでは難しい。全世界の知識が必要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司会：「独自ソフトでやってきた自動車業界、今後何が必要か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自動車業界の仕様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界で、まだあまり認知されていない。ユースケースがどう違うか議論したい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デンソー：　我々のノウハウ、アイデアなので、オープンにするのは説得しづらい。だが、変わりつつある。私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リーダとして、この場に来てい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ジャガー：　我々はユースケースを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GENIVI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解放したが、現在、メンバーにならないと見られない。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2900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ある。完全にオープンにしようと思う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司会：「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何を期待する？何をコントリビュートしている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トヨタ：　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Tizen IVI 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にソースコードを提供した。トヨタで初めてのこと。社内準備が大変だったが、なんとかやった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</a:rPr>
              <a:t>ルネサス：　オープンソースは、とにかく小さなソースコードを出して議論していくのがよい。公開の場所で議論す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4C4-1BBE-43EC-B913-5B6D03879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GP創英角ｺﾞｼｯｸUB"/>
              </a:rPr>
              <a:t>ALS Panel Discussion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デンソー：　デンソーは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参加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GENIVI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も参加。起動時間、ファイルシステム、独自の技術を持っているが強みと思っていない。共有すべきと考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AGL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に参加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：「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年ほど、というなかで、最新のアップストリームに採用されるの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ジャガー：　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OSS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は、我々のルールでは動かない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ルネサス：　製品生産者は、上流に反映させたいと思っていて、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LTSI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でギャップを最小化している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：「自動車エコシステム内にいない開発者がコントリビューションの動機ある？」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トヨタ：　これまでクローズなエコシステム。今後誰でも参加可能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GP創英角ｺﾞｼｯｸU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創英角ｺﾞｼｯｸUB"/>
              </a:rPr>
              <a:t>ジャガー：　将来、センサーネットワークにもアクセスできて、マーケットに出せてマネタイズできるようにする。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F72-D32C-4BB4-81FA-5150533DFF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55:06Z</dcterms:created>
  <dc:creator/>
  <dc:description/>
  <dc:language>en-US</dc:language>
  <cp:lastModifiedBy>K.KATO</cp:lastModifiedBy>
  <dcterms:modified xsi:type="dcterms:W3CDTF">2013-06-10T02:05:20Z</dcterms:modified>
  <cp:revision>227</cp:revision>
  <dc:subject/>
  <dc:title>Automotive Linux Summit Spring 2013 LinuxCon Japan 2013 Report</dc:title>
</cp:coreProperties>
</file>